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9C6E-AD30-4F73-995B-4CBC403D8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D6C1-49F5-4620-868A-11A1C30C28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ABDF-8E31-41F6-A05F-B4C61CA8FA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419B-5BCB-4BDC-B5EF-29D5704128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5C26-4094-46E5-87E6-777E004ECD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68C8-2942-4F16-A843-4EE70BD3AB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499D-CF4E-4BB9-AAEA-DE8124FEF6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4305-E6A7-46C1-9E99-B688420082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21BF-B57C-4AD4-9A55-5C8709C759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406F-9EFA-45FE-9CCE-04B6D573AE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0384-5198-40A8-A2D8-142E55B05D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6A43-68D2-4666-A764-06E1B171B9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CE48-8F31-47CF-A43D-39B810C947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59E9-C8CE-48CD-8696-DD8F3EA081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3E50-B5F6-4D67-B0D6-2D14BF64F9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DE47-2EC3-4610-8CC9-4FDD5D7BA0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87B9-E58F-4D72-AB2F-75C3FBDB72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2FAA-A8AB-4E9B-906D-500AEB5165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A8E9-45D9-4D4F-B8A2-AEBD1796A5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05EC-6E6C-4F80-B9AC-966D93D93B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A7A0-689A-4506-8978-DAC00D908C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839B-7528-474B-9D70-BA38E2FD30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D3E5-2EBE-43EB-B520-E5E34465C4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DC39-084F-4936-8A60-CBC38735E1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1840-B4D3-473C-A3CB-334FC64F0D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E2790-ED7E-4641-BC7C-F01473B0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2251A-AEDE-49F4-93D2-B541AFB6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E604B-76E9-4CCC-AFDD-7D33F764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72BE8-1150-485F-9ADD-F9718B31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FDC2-AD5E-4AD5-8D21-B89094ED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F8B9-C55F-4999-96F3-D8DCDE15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C3DF-AE2F-494C-9D33-788C358B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7A69-D78F-4BA9-BBFD-B129B67E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CC83-A324-4278-B71D-D1EEE7FF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B281-AC3D-4F6E-8E72-F1E1F800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AD4A-1920-434D-B551-FCD98C26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7E766-1775-4F7A-9060-68B496F1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E11B-B6EA-4DCE-A823-E8C22DF4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4C8D-8541-45F0-AAE3-97586DF8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CF4F-F7F1-4F97-A57B-D54A3862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D3CE-604F-4FC0-8367-68CBFF6F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0768-CD31-4F36-AE14-A92DC4BE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2A54-3811-4E74-8F8C-9F0C9F9C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554D0-5595-4269-B972-74CECD7A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D673C-29BF-485A-98D8-9CFC387C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B654C-3A9E-478D-8AD0-3EDC0E7D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73AD-C7E8-41E0-82FF-0483B52F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EC970-83EA-4385-BBB4-59605532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72E27-6898-4A04-9FBF-F61D1BCD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F4D3-0BE3-4E44-A505-4A7687DDDA5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D769-F316-4D48-AAD0-E3194C7D17A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dmodo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It 7240</a:t>
            </a:r>
            <a:br>
              <a:rPr sz="6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arol Marti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Social Media evaluation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8cae2"/>
                </a:solidFill>
                <a:latin typeface="Tahoma"/>
              </a:rPr>
              <a:t>Nitrogen bas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244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20"/>
          <p:cNvSpPr/>
          <p:nvPr/>
        </p:nvSpPr>
        <p:spPr>
          <a:xfrm>
            <a:off x="0" y="52578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2743200" y="3581280"/>
            <a:ext cx="1752480" cy="91440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an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38"/>
          <p:cNvSpPr/>
          <p:nvPr/>
        </p:nvSpPr>
        <p:spPr>
          <a:xfrm>
            <a:off x="457200" y="3581280"/>
            <a:ext cx="2133720" cy="91440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en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39"/>
          <p:cNvSpPr/>
          <p:nvPr/>
        </p:nvSpPr>
        <p:spPr>
          <a:xfrm>
            <a:off x="6324480" y="1981080"/>
            <a:ext cx="1752840" cy="91440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yrimidi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40"/>
          <p:cNvSpPr/>
          <p:nvPr/>
        </p:nvSpPr>
        <p:spPr>
          <a:xfrm>
            <a:off x="5334120" y="3733920"/>
            <a:ext cx="1752480" cy="91440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ytos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41"/>
          <p:cNvSpPr/>
          <p:nvPr/>
        </p:nvSpPr>
        <p:spPr>
          <a:xfrm>
            <a:off x="7238880" y="3733920"/>
            <a:ext cx="1600200" cy="91440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ym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42"/>
          <p:cNvSpPr/>
          <p:nvPr/>
        </p:nvSpPr>
        <p:spPr>
          <a:xfrm>
            <a:off x="1752480" y="1917720"/>
            <a:ext cx="1524240" cy="91440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rni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44"/>
          <p:cNvSpPr/>
          <p:nvPr/>
        </p:nvSpPr>
        <p:spPr>
          <a:xfrm flipH="1">
            <a:off x="1294920" y="28954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46"/>
          <p:cNvSpPr/>
          <p:nvPr/>
        </p:nvSpPr>
        <p:spPr>
          <a:xfrm>
            <a:off x="2895480" y="289548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48"/>
          <p:cNvSpPr/>
          <p:nvPr/>
        </p:nvSpPr>
        <p:spPr>
          <a:xfrm flipH="1">
            <a:off x="6095520" y="2895480"/>
            <a:ext cx="76212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49"/>
          <p:cNvSpPr/>
          <p:nvPr/>
        </p:nvSpPr>
        <p:spPr>
          <a:xfrm>
            <a:off x="7467480" y="2971800"/>
            <a:ext cx="83844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Line 50"/>
          <p:cNvSpPr/>
          <p:nvPr/>
        </p:nvSpPr>
        <p:spPr>
          <a:xfrm flipH="1">
            <a:off x="2705040" y="1101600"/>
            <a:ext cx="81432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Line 51"/>
          <p:cNvSpPr/>
          <p:nvPr/>
        </p:nvSpPr>
        <p:spPr>
          <a:xfrm>
            <a:off x="5799240" y="1077840"/>
            <a:ext cx="1228680" cy="851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ffff"/>
                </a:solidFill>
                <a:latin typeface="Tahoma"/>
              </a:rPr>
              <a:t>Pairing of bas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A base will only form a bond (hydrogen) with its complementary b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                  </a:t>
            </a:r>
            <a:r>
              <a:rPr b="1" lang="en-US" sz="3200" spc="-1" strike="noStrike" u="sng">
                <a:solidFill>
                  <a:srgbClr val="66ffff"/>
                </a:solidFill>
                <a:uFillTx/>
                <a:latin typeface="Tahoma"/>
              </a:rPr>
              <a:t>Base pairing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A Purine must pair with pyrimi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Adenine will pair with thym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Guanine will pair with Cytos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Made up of subunits called nucleot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6" descr="nucleotide 2"/>
          <p:cNvPicPr/>
          <p:nvPr/>
        </p:nvPicPr>
        <p:blipFill>
          <a:blip r:embed="rId1"/>
          <a:stretch/>
        </p:blipFill>
        <p:spPr>
          <a:xfrm>
            <a:off x="1295280" y="2057400"/>
            <a:ext cx="5677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ffff"/>
                </a:solidFill>
                <a:latin typeface="Tahoma"/>
              </a:rPr>
              <a:t>DN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 chain of nucleot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    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    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1365120" y="3268800"/>
            <a:ext cx="238320" cy="20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Line 7"/>
          <p:cNvSpPr/>
          <p:nvPr/>
        </p:nvSpPr>
        <p:spPr>
          <a:xfrm flipV="1">
            <a:off x="1828800" y="3595320"/>
            <a:ext cx="750960" cy="11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9"/>
          <p:cNvSpPr/>
          <p:nvPr/>
        </p:nvSpPr>
        <p:spPr>
          <a:xfrm flipH="1">
            <a:off x="1278000" y="3695760"/>
            <a:ext cx="387360" cy="66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1278000" y="4735440"/>
            <a:ext cx="25092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1854360" y="5097600"/>
            <a:ext cx="7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ffff"/>
                </a:solidFill>
                <a:latin typeface="Tahoma"/>
              </a:rPr>
              <a:t>Two Strand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46240" y="139860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                              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      B  B     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                              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       B  B    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                              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       B   B    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                              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       B   B     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50720" y="1816200"/>
            <a:ext cx="363600" cy="350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5"/>
          <p:cNvSpPr/>
          <p:nvPr/>
        </p:nvSpPr>
        <p:spPr>
          <a:xfrm flipV="1">
            <a:off x="1252440" y="2417400"/>
            <a:ext cx="9144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7"/>
          <p:cNvSpPr/>
          <p:nvPr/>
        </p:nvSpPr>
        <p:spPr>
          <a:xfrm flipH="1">
            <a:off x="549360" y="2517840"/>
            <a:ext cx="350640" cy="301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500040" y="3006720"/>
            <a:ext cx="4269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Line 9"/>
          <p:cNvSpPr/>
          <p:nvPr/>
        </p:nvSpPr>
        <p:spPr>
          <a:xfrm flipH="1">
            <a:off x="514440" y="3570120"/>
            <a:ext cx="425520" cy="32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412920" y="4021200"/>
            <a:ext cx="439560" cy="363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Line 11"/>
          <p:cNvSpPr/>
          <p:nvPr/>
        </p:nvSpPr>
        <p:spPr>
          <a:xfrm flipH="1">
            <a:off x="550440" y="4599000"/>
            <a:ext cx="412920" cy="32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Line 12"/>
          <p:cNvSpPr/>
          <p:nvPr/>
        </p:nvSpPr>
        <p:spPr>
          <a:xfrm>
            <a:off x="461880" y="5160960"/>
            <a:ext cx="414360" cy="338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Line 13"/>
          <p:cNvSpPr/>
          <p:nvPr/>
        </p:nvSpPr>
        <p:spPr>
          <a:xfrm flipV="1">
            <a:off x="1038240" y="3444480"/>
            <a:ext cx="11034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14"/>
          <p:cNvSpPr/>
          <p:nvPr/>
        </p:nvSpPr>
        <p:spPr>
          <a:xfrm>
            <a:off x="1065240" y="4484520"/>
            <a:ext cx="1014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Line 15"/>
          <p:cNvSpPr/>
          <p:nvPr/>
        </p:nvSpPr>
        <p:spPr>
          <a:xfrm flipV="1">
            <a:off x="1050840" y="5636880"/>
            <a:ext cx="1027080" cy="1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Line 16"/>
          <p:cNvSpPr/>
          <p:nvPr/>
        </p:nvSpPr>
        <p:spPr>
          <a:xfrm flipH="1">
            <a:off x="3669840" y="1866960"/>
            <a:ext cx="714600" cy="387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Line 17"/>
          <p:cNvSpPr/>
          <p:nvPr/>
        </p:nvSpPr>
        <p:spPr>
          <a:xfrm flipH="1">
            <a:off x="3593880" y="2994120"/>
            <a:ext cx="739800" cy="43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Line 18"/>
          <p:cNvSpPr/>
          <p:nvPr/>
        </p:nvSpPr>
        <p:spPr>
          <a:xfrm>
            <a:off x="3546360" y="2405160"/>
            <a:ext cx="876240" cy="47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19"/>
          <p:cNvSpPr/>
          <p:nvPr/>
        </p:nvSpPr>
        <p:spPr>
          <a:xfrm>
            <a:off x="3621240" y="3521160"/>
            <a:ext cx="750600" cy="463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20"/>
          <p:cNvSpPr/>
          <p:nvPr/>
        </p:nvSpPr>
        <p:spPr>
          <a:xfrm flipH="1">
            <a:off x="3708000" y="4146480"/>
            <a:ext cx="676440" cy="42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21"/>
          <p:cNvSpPr/>
          <p:nvPr/>
        </p:nvSpPr>
        <p:spPr>
          <a:xfrm>
            <a:off x="3732120" y="4597560"/>
            <a:ext cx="576360" cy="36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22"/>
          <p:cNvSpPr/>
          <p:nvPr/>
        </p:nvSpPr>
        <p:spPr>
          <a:xfrm flipH="1">
            <a:off x="3857400" y="5122800"/>
            <a:ext cx="501480" cy="38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23"/>
          <p:cNvSpPr/>
          <p:nvPr/>
        </p:nvSpPr>
        <p:spPr>
          <a:xfrm>
            <a:off x="2643120" y="2343240"/>
            <a:ext cx="72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24"/>
          <p:cNvSpPr/>
          <p:nvPr/>
        </p:nvSpPr>
        <p:spPr>
          <a:xfrm>
            <a:off x="2805120" y="3432240"/>
            <a:ext cx="66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25"/>
          <p:cNvSpPr/>
          <p:nvPr/>
        </p:nvSpPr>
        <p:spPr>
          <a:xfrm flipV="1">
            <a:off x="2868480" y="4471560"/>
            <a:ext cx="701640" cy="1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26"/>
          <p:cNvSpPr/>
          <p:nvPr/>
        </p:nvSpPr>
        <p:spPr>
          <a:xfrm>
            <a:off x="2868480" y="5548320"/>
            <a:ext cx="77652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5369040" y="2073240"/>
            <a:ext cx="234792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uble Heli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6653160" y="3205080"/>
            <a:ext cx="24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29"/>
          <p:cNvSpPr/>
          <p:nvPr/>
        </p:nvSpPr>
        <p:spPr>
          <a:xfrm>
            <a:off x="5568840" y="1685880"/>
            <a:ext cx="220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30"/>
          <p:cNvSpPr/>
          <p:nvPr/>
        </p:nvSpPr>
        <p:spPr>
          <a:xfrm>
            <a:off x="5883120" y="3102120"/>
            <a:ext cx="2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31"/>
          <p:cNvSpPr/>
          <p:nvPr/>
        </p:nvSpPr>
        <p:spPr>
          <a:xfrm>
            <a:off x="5745240" y="3348000"/>
            <a:ext cx="2351160" cy="119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o nucleotide ch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Line 34"/>
          <p:cNvSpPr/>
          <p:nvPr/>
        </p:nvSpPr>
        <p:spPr>
          <a:xfrm>
            <a:off x="6012000" y="2668680"/>
            <a:ext cx="527040" cy="63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ffff"/>
                </a:solidFill>
                <a:latin typeface="Tahoma"/>
              </a:rPr>
              <a:t>Processes of DN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95440" y="15620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The process of Synthesizing a new strand of D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ffff"/>
                </a:solidFill>
                <a:latin typeface="Tahoma"/>
              </a:rPr>
              <a:t>Main process of DN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en-US" sz="3600" spc="-1" strike="noStrike">
                <a:solidFill>
                  <a:srgbClr val="66ffff"/>
                </a:solidFill>
                <a:latin typeface="Tahoma"/>
              </a:rPr>
              <a:t>Repli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Tahoma"/>
              </a:rPr>
              <a:t>The double helix must unwind (enzymes) separating into two str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Tahoma"/>
              </a:rPr>
              <a:t>Each strand is used as a template to build a complementary str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ahoma"/>
              </a:rPr>
              <a:t>Complementary bases are added to the exposed str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ahoma"/>
              </a:rPr>
              <a:t>Each new double helix consist of one old strand of DNA to one new DNA str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ik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360" y="1738080"/>
            <a:ext cx="8906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ood f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no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power points from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vide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Welcome to Wikispaces - Free Wikis for Every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witter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communication tool between staff with in the same buil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ier than em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rt and sweet mess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answers (ask question/get answer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U-Tube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Inexpensive way to make a short vid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Good source for mus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Students can make with their cell phones and post on 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Demonstrations of la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0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Power Point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627280"/>
            <a:ext cx="822960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lide Sh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ace to share power poi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are mov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are lab demo- tutor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odcasting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 for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of music u-tube, itunes or garage b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dio speeches down loa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llenges 1. hearing impaired students    (interpret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 visual impaired stude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igital Storytelling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ature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of musi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in any discipli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llenge:  similar to podcas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052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Edmodo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7120" y="245268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Education 2.0 - Edmodo - Free Private Microblogging For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eb casting Environment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imb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 bound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04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 need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line clas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Welcome to Wikispaces - Free Wikis for Every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156204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46745" dir="18316873" blurRad="0" rotWithShape="0">
              <a:srgbClr val="602000">
                <a:alpha val="75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Tahoma"/>
              </a:rPr>
              <a:t>The Structure of DN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22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ffff"/>
                </a:solidFill>
                <a:latin typeface="Tahoma"/>
              </a:rPr>
              <a:t>Objectiv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Describe the composition and structure of a DNA molecu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Summarize the process of DNA replic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ffff"/>
                </a:solidFill>
                <a:latin typeface="Tahoma"/>
              </a:rPr>
              <a:t>What is DN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4800" spc="-1" strike="noStrike">
                <a:solidFill>
                  <a:srgbClr val="66ffff"/>
                </a:solidFill>
                <a:latin typeface="Tahoma"/>
              </a:rPr>
              <a:t>Deoxyribonucleic acid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022040" y="-762480"/>
            <a:ext cx="17128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1176480" y="1214280"/>
            <a:ext cx="3504960" cy="1295640"/>
          </a:xfrm>
          <a:custGeom>
            <a:avLst/>
            <a:gdLst>
              <a:gd name="textAreaLeft" fmla="*/ 0 w 3504960"/>
              <a:gd name="textAreaRight" fmla="*/ 3505320 w 3504960"/>
              <a:gd name="textAreaTop" fmla="*/ 167760 h 1295640"/>
              <a:gd name="textAreaBottom" fmla="*/ 1127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sphate Gro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5186520" y="4692600"/>
            <a:ext cx="3733560" cy="1295280"/>
          </a:xfrm>
          <a:custGeom>
            <a:avLst/>
            <a:gdLst>
              <a:gd name="textAreaLeft" fmla="*/ 0 w 3733560"/>
              <a:gd name="textAreaRight" fmla="*/ 3733920 w 373356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3111480" y="2859120"/>
            <a:ext cx="3733920" cy="1219320"/>
          </a:xfrm>
          <a:custGeom>
            <a:avLst/>
            <a:gdLst>
              <a:gd name="textAreaLeft" fmla="*/ 50760 w 3733920"/>
              <a:gd name="textAreaRight" fmla="*/ 3785040 w 3733920"/>
              <a:gd name="textAreaTop" fmla="*/ 158040 h 1219320"/>
              <a:gd name="textAreaBottom" fmla="*/ 1061280 h 1219320"/>
            </a:gdLst>
            <a:ahLst/>
            <a:rect l="textAreaLeft" t="textAreaTop" r="textAreaRight" b="textAreaBottom"/>
            <a:pathLst>
              <a:path w="21600" h="21600">
                <a:moveTo>
                  <a:pt x="294" y="1400"/>
                </a:moveTo>
                <a:cubicBezTo>
                  <a:pt x="7347" y="-3560"/>
                  <a:pt x="14547" y="6360"/>
                  <a:pt x="21600" y="1400"/>
                </a:cubicBezTo>
                <a:lnTo>
                  <a:pt x="21306" y="20200"/>
                </a:lnTo>
                <a:cubicBezTo>
                  <a:pt x="14253" y="25160"/>
                  <a:pt x="7053" y="15240"/>
                  <a:pt x="0" y="20200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g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-21096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ffff"/>
                </a:solidFill>
                <a:latin typeface="Tahoma"/>
              </a:rPr>
              <a:t>Compone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6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2514600" y="2133720"/>
            <a:ext cx="4419720" cy="2743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sphate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4495680" y="51055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ffff"/>
                </a:solidFill>
                <a:latin typeface="Tahoma"/>
              </a:rPr>
              <a:t>Suga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Ribose – a five carbon su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Line 5"/>
          <p:cNvSpPr/>
          <p:nvPr/>
        </p:nvSpPr>
        <p:spPr>
          <a:xfrm flipV="1">
            <a:off x="3276720" y="351900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2498760" y="2583000"/>
            <a:ext cx="167652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3325680" y="4152960"/>
            <a:ext cx="2286000" cy="137160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ib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3733920" y="5486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12"/>
          <p:cNvSpPr/>
          <p:nvPr/>
        </p:nvSpPr>
        <p:spPr>
          <a:xfrm flipV="1">
            <a:off x="5562720" y="380952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ffff"/>
                </a:solidFill>
                <a:latin typeface="Tahoma"/>
              </a:rPr>
              <a:t>Nitrogen bas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2066760" y="272556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2209680" y="32767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2209680" y="3733920"/>
            <a:ext cx="2210040" cy="129528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666880" y="50292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 flipV="1">
            <a:off x="4419720" y="32763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9"/>
          <p:cNvSpPr/>
          <p:nvPr/>
        </p:nvSpPr>
        <p:spPr>
          <a:xfrm rot="20415000">
            <a:off x="4952520" y="25146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10"/>
          <p:cNvSpPr/>
          <p:nvPr/>
        </p:nvSpPr>
        <p:spPr>
          <a:xfrm rot="16734600">
            <a:off x="4091040" y="2385720"/>
            <a:ext cx="961920" cy="914400"/>
          </a:xfrm>
          <a:prstGeom prst="pentagon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Oval 11"/>
          <p:cNvSpPr/>
          <p:nvPr/>
        </p:nvSpPr>
        <p:spPr>
          <a:xfrm>
            <a:off x="1447920" y="2209680"/>
            <a:ext cx="1447560" cy="1067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5969160" y="232416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trogen ba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33:16Z</dcterms:created>
  <dc:creator>tpatni</dc:creator>
  <dc:description/>
  <dc:language>en-US</dc:language>
  <cp:lastModifiedBy>College of Education</cp:lastModifiedBy>
  <dcterms:modified xsi:type="dcterms:W3CDTF">2009-08-08T18:33:32Z</dcterms:modified>
  <cp:revision>10</cp:revision>
  <dc:subject/>
  <dc:title>The Structure of DNA</dc:title>
</cp:coreProperties>
</file>